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4B6-D025-40A8-811A-EDCEF39F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4AA-CACD-4D48-BF3C-8953B7D2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EB6-F0A7-4D99-A58D-7F22C3ED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EEA-0855-431B-A4C9-6F9CAB6B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D17A-F512-4130-9E90-F603EF06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4333-116F-451D-BF30-3F5C9A6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7F58-EEBA-4042-B221-36DD5CA4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4B33-50F3-487B-96A6-EF2BAC74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4399-DFBA-4876-933A-FE5B1EDE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27AE-FFDC-4ACE-A749-9AACEC47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1641-0F11-40D8-A7B9-9D0DBD5F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F5E-A53B-4663-8B00-1A4027F5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7A5E-09E6-4859-BBE6-EB72F2C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C705-83A4-4618-89E7-22C94813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37E7-B274-45DE-B338-212460DA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720D-5B49-49F5-9A66-F3D02365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7AB9-90D3-4738-BF81-31703F10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B14-5C68-4B11-937A-75CE5DFF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0D7-9A49-4EFA-BA52-2991D9BC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A62-48AD-43EF-8477-32CAE3F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426-16DD-44B5-AE9E-0EB64CF7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3CA-61CB-49A8-984E-2D2EBE1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BAA-62BC-4ACF-800C-468CF3FF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015-9868-4BF2-8273-203148A4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230A-55A2-412A-B58E-BBCC8BF911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977-ED18-4892-863E-CEDB754EA4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Satya Na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AM is an integral part of most So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Automate SRAM desig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-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-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AB6-E469-4483-A1A2-9F5574F5B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65760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590920"/>
            <a:ext cx="2057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ematic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52578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out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514600"/>
            <a:ext cx="2057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5029200"/>
            <a:ext cx="2057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579600" cy="663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1447920" y="28195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00400" y="289512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4520" y="327672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96252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ignpa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343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49568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419720"/>
            <a:ext cx="327672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905120"/>
            <a:ext cx="5105160" cy="4724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adence SK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E68-DC96-4997-B144-841F04B904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AM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– 8-3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-mux – 1,2,4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– 8-5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and #cols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block using en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/Layout script for tiling each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 script to generate final S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782800" cy="3733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56080" y="288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691-7AB2-4CC6-9A94-89B5FF31C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able leaf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048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 Vias programmed in SKILL for decoder/WL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287960" cy="200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5521320" cy="250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44920" y="5815080"/>
            <a:ext cx="30492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78440" y="5149800"/>
            <a:ext cx="30456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38280" y="2590920"/>
            <a:ext cx="2895840" cy="9144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05320"/>
            <a:ext cx="1676520" cy="16761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4724280"/>
            <a:ext cx="11430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d by SRAM optimiz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5638680"/>
            <a:ext cx="4038480" cy="0"/>
          </a:xfrm>
          <a:prstGeom prst="line">
            <a:avLst/>
          </a:prstGeom>
          <a:ln w="1908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814-69A2-4E4F-A545-4EE4B61A5C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ting by abu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7432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048120"/>
            <a:ext cx="7621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7432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3048120"/>
            <a:ext cx="7621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971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g taking care of internal to lea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f-cel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f-cel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al between two leaf cells – E.g. WL between WL Driver and Bit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38480" y="320040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124080" y="32004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44F-134E-476E-B478-1483651ED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48040" y="2438280"/>
            <a:ext cx="1243080" cy="1792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309760" y="3352680"/>
            <a:ext cx="111456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2240" y="5257800"/>
            <a:ext cx="2249640" cy="1149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95360" y="1905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column circuitry layouts gene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6240" y="30081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ault, Col-mux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85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4824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-mux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07240" y="5365800"/>
            <a:ext cx="152280" cy="15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043320" y="5486400"/>
            <a:ext cx="609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082920" y="2971800"/>
            <a:ext cx="69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82920" y="3048120"/>
            <a:ext cx="6922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19440" y="2895480"/>
            <a:ext cx="16002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F81-0381-473E-A6AF-E87AEFB58D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schematic-generation scri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-cell layout scri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level layout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/Tes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 generation (FreePD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T-RAM (Anura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 + Layout generation (ST 6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-leakage cancelling SA (Sudhansh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-ended SA (Jo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39B-688D-450E-9B0B-3B8132796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ing leaf-cell layout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-cell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 optimizer with SRAM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Write optimizer output to conf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human interven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improve user/technology-in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5C0-27ED-41ED-8212-BFF836A806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24:43Z</dcterms:created>
  <dc:creator>uva</dc:creator>
  <dc:description/>
  <dc:language>en-US</dc:language>
  <cp:lastModifiedBy>uva</cp:lastModifiedBy>
  <dcterms:modified xsi:type="dcterms:W3CDTF">2010-04-21T23:16:38Z</dcterms:modified>
  <cp:revision>43</cp:revision>
  <dc:subject/>
  <dc:title>SRAM Generator</dc:title>
</cp:coreProperties>
</file>